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3A1-87BF-4ED8-BCAE-9CC9DABB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122-20C0-4FFE-AF18-61B54E5A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CBA-1898-4E01-A974-C86B48FC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4469-9CB4-40B7-AB95-5DFED128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1DE-D5B7-4E8A-9276-4B66314A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056-11A8-469A-96D3-952B8BDA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A5A8-DA80-4DFC-8443-24B73B70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F12-B81E-4FDE-BEEF-C29E3064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E3B-070F-4413-B31A-C3606514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4F4-366E-4ACE-9030-80DAB09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BB9-779B-4A4A-ABAD-968E9C4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E9B-E173-478E-9C88-C9AB8407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80B1-2514-46FE-BF78-A7A1BC24A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him, in hi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ecause of hi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affirm the Church’s fa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4:57Z</dcterms:created>
  <dc:creator>Anon Anon</dc:creator>
  <dc:description/>
  <dc:language>en-US</dc:language>
  <cp:lastModifiedBy>Anon Anon</cp:lastModifiedBy>
  <dcterms:modified xsi:type="dcterms:W3CDTF">2005-08-09T05:09:48Z</dcterms:modified>
  <cp:revision>8</cp:revision>
  <dc:subject/>
  <dc:title>Memorial Acclamation (SLD-2)</dc:title>
</cp:coreProperties>
</file>